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D5B5-58E7-4549-948D-F7B86495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0640-0B26-4F23-BA8E-A419A170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AB04-7A06-4415-8ADC-8F8A552E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249A-BF16-49F7-A1B4-0AC98E7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E1B-71B2-421B-A4EE-594CEDB6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C392-DB65-4B69-A5FB-6B59460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C3A2-AD1B-4A63-BAAA-DC467A1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21C9-EB6C-44FF-97A6-B6C38A1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540-9416-474C-A06C-8F99CEBD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86F5-2BFA-41EF-8334-1417FB3B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5636-BC91-44E9-AE89-FE21B248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693C-1BE6-40FB-A66F-8B0047D4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F3BD-7E3D-4D7B-8B81-82A2448F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D031-5A02-4527-9F4B-1A41E47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5A72-F91F-42E2-9321-BE58124D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7C0C-FB59-4C1A-B55B-F8BB80DF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8C9-C91B-444E-B30D-335BF04B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88CA-6374-4AB8-B6DF-0B0BA866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5374-FC57-4A18-A401-7EE98CD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4B6D-7BE9-4408-98EE-CA2B4A7C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5095-DAF1-4FA4-9DC4-A75A8183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729F-EC4D-492B-88DB-A2A20E2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6240-83EF-4AB3-ADDB-E5F8A87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B74B-1C8E-4705-BB8E-256BF19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08AE-7FDA-44B4-A5F1-C361A5CB93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91F-4674-45DD-B62B-722BC8D6E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ума крупного рогатого скота (pestes bovina)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ирусная диарея крупного рогатого скота (Diarrhea viralis bovum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озбудитель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НКсодержащий вирус, относится к сем. Togaviridae, роду Pestivirus; имеет сферическую форму (Гиллепси, 1961 г.). Вирус сохраняется годами при — 20°С, в культуральной жидкости не теряет биологическую активность до 1 года, в крови, в лимфатических узлах, селезенке и др. патологическом материале — до 6 мес. При температуре 25°С в течение 1 сут вирус практически не снижает биологическую активность, при 37°С погибает через 5 сут. Вирус чувствителен к эфиру, хлороформу, трипсину и дезоксихолату натр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кубационный период: 6—9 суток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чник инфекции: больные животные и вирусоносител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ти передачи: алиментарный, через обслуживающий персонал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мптомы: при остром течении температура повышается до 40—42°С, депрессия, потеря аппетита, истечение из носа, эрозии и язвы на слизистой носовой полости, изъязвления кожи на венчике, кал зловонный, жидкой консистенции, с пеной и слизью; гибель на 2—3 сутки. У коров и молодняка старшего возраста — абортивная форма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атолого-анатомические изменения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ивают подкожные студенистые отеки, гиперемию легких, участки уплотнения красного цвета, окруженные зоной эмфиземы. Слизистая трахеи, бронхов и бронхиол гиперемирована и покрыта слизистогнойным экссудатом. Между долями легкого иногда находят фиброзную ткань. Отмечают также отечность, гиперемию или некроз заглоточных, шейных, бронхиальных и средостепенных лимфоузл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Диагностик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лаборатории проводят РП в агаровом геле, РН в культуре тканей, иммунофлюоресценцию, биопробу на телятах. От больных животных в ранней'стадии болезни отбирают кровь, смывы с носовой полости, фекалии, от вынужденно убитых или павших животных направляют часть различных отделов кишечника, носовой перегородки трахеи, легких, селезенки, лимфоузлы; от абортированных плодов берут кусочки паренхиматозных органов, околоплодную жидко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офилактика и лече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чение: средства специфической терапии не предложены, проводят симптоматическое лече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илактика: рекомендуется убой больного скота и проведение ограничительных мероприят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теринарно-санитарная экспертиза. Туши и все субпродукты от крупного рогатого скота, больного или подозрительного по этому заболеванию, выпускать в сыром виде запрещаетс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ясо и субпродукты, признанные по результатам ветеринарно-санитарной экспертизы пригодными в пищу, направляют для переработки на вареные и варено-копченые колбас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наличии патологических изменений в туше и внутренних органах проводят бактериологическое исследование. Если положительный результат — внутренние органы в утиль, а туши выпускают после провариван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уры дезинфицируют в насыщенном растворе поваренной соли с добавлением 1 % хлористого калия. Волосы дезинфицируют в паровых дезинфекционных камерах при температуре 109— 111 °С в течение 30 м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489040" y="457200"/>
            <a:ext cx="4008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ма крупного рогатого скота (pestes bovina) остро протекающая,  чрезвычайно контагиозная  болезнь крупного рогатого скота, характеризующаяся постоянной высокой лихорадкой, геморрагическим диатезом, воспалительно-некротическими изменениями слизистых оболочек преимущественно пищеварительного тракта,  системным поражением лимфоидной ткани.  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будитель относится к семейству Paramyxoviridae, 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семейству Paramyxoviru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ду Morbillivir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7150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Течение и симптомы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кубационный период  при чуме крупного рогатого скота  составляет от 3 до 17 дней. Течение бывает острое, подострое и сверхострое. Проявляется в типичной, абортивной и латентной форм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иагноз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гноз ставят на  основании эпизоотологических данных, симптомов болезни, патологоанатомических изменений и результатов лабораторных исследований. Вирус выделяют на культуре клеток почки крупного рогатого скота. В крови определяют антитела с помощью РСК, РН, РТГА,  ИФА.  Идентификацию культурального вируса и возбудителя в биологическом материале    проводят с использованием РСК, РТНГА, РИФ, ИФА, ПЦ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91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прещено ветеринарным законодательством. Их убивают бескровным методом с последующим сжиганием труп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Профилактика и меры борьбы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специфической   профилактики чумы крупного рогатого скота  используют живые культуральные вакцины из штаммов ЛТ, К37/70, TCRV, инактивированные сапонин-вакцины  из штамма ЛТ ВЧ КРС. В США и Японии используются генноинженерные рекомбинантные вакцины. Для ликвидации заболевания используют  общие противоэпизоотические мероприятия – карантин, вакцинация животных в местах возникновения болезни,  убой больных и подозрительных в заболевании животных, ограничение движения скота, дезинфек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17T17:37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